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4.png" ContentType="image/png"/>
  <Override PartName="/ppt/media/image18.jpeg" ContentType="image/jpeg"/>
  <Override PartName="/ppt/media/image22.wmf" ContentType="image/x-wmf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5B22D-E6DF-4E7F-91B7-22B7EACE0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4148F-7F8B-4173-B500-49F15EF60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4D0DF-13AB-48A3-9616-380FB8595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9F804-C697-44D9-82F6-606B1C65B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48958-EB31-46D9-8810-D360A6617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DDFF4-4A58-47BB-9304-08322BADA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D270E-E22E-421A-BB18-EE10775A1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914A9-9B0D-4F37-9FFA-1DEE469D1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3E4C3-7FE4-4429-A9A4-690862278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DC881-0267-4F1E-8522-9DB192C4E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D980A-C555-4F06-B5BF-A57FCEF2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9BAE8-5130-4720-BD2A-722A6815E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5C72D-D34E-4740-96E3-60B80FE3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9DA66-0B75-40DB-BC99-A72552620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EE58C-460B-4A80-AAD6-86F95F321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50C70-2436-42BB-B940-DF02A04DF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A6AE5-79BF-4EF0-8E4C-4F1B29191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F26FB-4382-4F7E-A15B-F06002E1A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D210E-3C1C-4685-833E-CFDFDCC64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14AE9-7253-4B9D-8060-8C599E345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E8ECE-CCE2-47D4-8D02-24E643202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924C2-F21D-4D12-B7BF-921CE7EF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9FE86-31C3-4992-A0D1-354CF85D2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6990B-2F2D-46BE-A223-5C59AA7BD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EA7E0-9C3D-4AC4-829D-A3CFFC2885C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5FF5A-A056-42EB-B93E-A6D6AF8C180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Emily Carr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ec. 13, 1871 –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arch 2, 1945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5" descr="20071212-emily_carr"/>
          <p:cNvPicPr/>
          <p:nvPr/>
        </p:nvPicPr>
        <p:blipFill>
          <a:blip r:embed="rId1"/>
          <a:stretch/>
        </p:blipFill>
        <p:spPr>
          <a:xfrm>
            <a:off x="2057400" y="2286000"/>
            <a:ext cx="266688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5" descr="Emily_Carr_Tree_In_Autumn_38x42_BW"/>
          <p:cNvPicPr/>
          <p:nvPr/>
        </p:nvPicPr>
        <p:blipFill>
          <a:blip r:embed="rId1"/>
          <a:stretch/>
        </p:blipFill>
        <p:spPr>
          <a:xfrm>
            <a:off x="457200" y="1752480"/>
            <a:ext cx="4505400" cy="40006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emily-carr_above-the-trees-46"/>
          <p:cNvPicPr/>
          <p:nvPr/>
        </p:nvPicPr>
        <p:blipFill>
          <a:blip r:embed="rId2"/>
          <a:stretch/>
        </p:blipFill>
        <p:spPr>
          <a:xfrm>
            <a:off x="5029200" y="914400"/>
            <a:ext cx="332424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March 2, 1945, 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71 Emily di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day her paintings are very valuable. She even has a prestigious school for art called The Emily Carr Institute of Art and Desig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5" descr="emily_carr_photo_new"/>
          <p:cNvPicPr/>
          <p:nvPr/>
        </p:nvPicPr>
        <p:blipFill>
          <a:blip r:embed="rId1"/>
          <a:stretch/>
        </p:blipFill>
        <p:spPr>
          <a:xfrm>
            <a:off x="6629400" y="533520"/>
            <a:ext cx="1666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5" descr="Emily_carr_2"/>
          <p:cNvPicPr/>
          <p:nvPr/>
        </p:nvPicPr>
        <p:blipFill>
          <a:blip r:embed="rId1"/>
          <a:stretch/>
        </p:blipFill>
        <p:spPr>
          <a:xfrm>
            <a:off x="2666880" y="1066680"/>
            <a:ext cx="383868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5" descr="emily-carr0001"/>
          <p:cNvPicPr/>
          <p:nvPr/>
        </p:nvPicPr>
        <p:blipFill>
          <a:blip r:embed="rId1"/>
          <a:stretch/>
        </p:blipFill>
        <p:spPr>
          <a:xfrm>
            <a:off x="762120" y="1066680"/>
            <a:ext cx="3305160" cy="51148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kispiax-village-e-carr"/>
          <p:cNvPicPr/>
          <p:nvPr/>
        </p:nvPicPr>
        <p:blipFill>
          <a:blip r:embed="rId2"/>
          <a:stretch/>
        </p:blipFill>
        <p:spPr>
          <a:xfrm>
            <a:off x="4419720" y="2133720"/>
            <a:ext cx="368604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5" descr="totem_forest"/>
          <p:cNvPicPr/>
          <p:nvPr/>
        </p:nvPicPr>
        <p:blipFill>
          <a:blip r:embed="rId1"/>
          <a:stretch/>
        </p:blipFill>
        <p:spPr>
          <a:xfrm>
            <a:off x="2743200" y="1143000"/>
            <a:ext cx="33051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edars are terribl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nsitive to change of ti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d light - sometimes the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e bluish cold-green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n they turn yell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rm-green - sometim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ir boughs flop heav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d sometimes float, t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y are fairy as ferns a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n they droop, heavy 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rtaches.”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mily Car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5" descr="12-emily-carr-in-the-forest"/>
          <p:cNvPicPr/>
          <p:nvPr/>
        </p:nvPicPr>
        <p:blipFill>
          <a:blip r:embed="rId1"/>
          <a:stretch/>
        </p:blipFill>
        <p:spPr>
          <a:xfrm>
            <a:off x="5181480" y="838080"/>
            <a:ext cx="348624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5" descr="red%20cedar-380x380"/>
          <p:cNvPicPr/>
          <p:nvPr/>
        </p:nvPicPr>
        <p:blipFill>
          <a:blip r:embed="rId1"/>
          <a:stretch/>
        </p:blipFill>
        <p:spPr>
          <a:xfrm>
            <a:off x="2895480" y="1905120"/>
            <a:ext cx="3619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mily Carr's painting Wind in the Tree Tops sold for $2,164,500 at the Heffel auction.” 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5" descr="A09S-E06807-001-01"/>
          <p:cNvPicPr/>
          <p:nvPr/>
        </p:nvPicPr>
        <p:blipFill>
          <a:blip r:embed="rId1"/>
          <a:stretch/>
        </p:blipFill>
        <p:spPr>
          <a:xfrm>
            <a:off x="2895480" y="1447920"/>
            <a:ext cx="296244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5" descr="ShorelineBIG_1"/>
          <p:cNvPicPr/>
          <p:nvPr/>
        </p:nvPicPr>
        <p:blipFill>
          <a:blip r:embed="rId1"/>
          <a:stretch/>
        </p:blipFill>
        <p:spPr>
          <a:xfrm>
            <a:off x="1371600" y="1752480"/>
            <a:ext cx="647712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5" descr="Emily%20Carr%20painting"/>
          <p:cNvPicPr/>
          <p:nvPr/>
        </p:nvPicPr>
        <p:blipFill>
          <a:blip r:embed="rId1"/>
          <a:stretch/>
        </p:blipFill>
        <p:spPr>
          <a:xfrm>
            <a:off x="2666880" y="2057400"/>
            <a:ext cx="35719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Emily the Artis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ily Carr is one of Canada’s most famous artist. From the time she was very young she loved to draw, paint , write and make potte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5" descr="EmilyCarr"/>
          <p:cNvPicPr/>
          <p:nvPr/>
        </p:nvPicPr>
        <p:blipFill>
          <a:blip r:embed="rId1"/>
          <a:stretch/>
        </p:blipFill>
        <p:spPr>
          <a:xfrm>
            <a:off x="6248520" y="3733920"/>
            <a:ext cx="141912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 must b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bsolutely hones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true in th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icting of a totem fo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aning is attached t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ery line. You must b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st particular abou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ail and proportion.”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mily Carr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5" descr="ec-gal014"/>
          <p:cNvPicPr/>
          <p:nvPr/>
        </p:nvPicPr>
        <p:blipFill>
          <a:blip r:embed="rId1"/>
          <a:stretch/>
        </p:blipFill>
        <p:spPr>
          <a:xfrm>
            <a:off x="5334120" y="1219320"/>
            <a:ext cx="24001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ffff"/>
                </a:solidFill>
                <a:latin typeface="Arial"/>
              </a:rPr>
              <a:t>A part of our heritage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LEARNING RESOURCES from referenced webs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https://www.historica-dominion.ca/content/heritage-minutes/emily-carr?media_type=41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"Contrary from the start" was the way Emily Carr described herself in her autobiography. She was a naughty child, an impatient and rebellious young girl, and a young woman who scorned the tidy conventions of the very proper Victorian society of Victoria, British Columbi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Indeed, until the end of her life she flouted the accepted conventions of the day, and was regarded as being a very eccentric individual. </a:t>
            </a:r>
            <a:br>
              <a:rPr sz="1800"/>
            </a:br>
            <a:br>
              <a:rPr sz="1800"/>
            </a:b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9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ff"/>
                </a:solidFill>
                <a:latin typeface="Arial"/>
              </a:rPr>
              <a:t>http://www.thecanadianencyclopedia.com/articles/emily-car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ff"/>
                </a:solidFill>
                <a:latin typeface="Arial"/>
              </a:rPr>
              <a:t>http://epe.lac-bac.gc.ca/100/205/301/ic/cdc/totems/default.ht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ffff"/>
                </a:solidFill>
                <a:latin typeface="Arial"/>
              </a:rPr>
              <a:t>https://www.historica-dominion.ca/content/heritage-minutes/emily-carr?media_type=41&amp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wonderful 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el the grandnes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Canada in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w.” Emily Car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5" descr="Emily Carr at age 21"/>
          <p:cNvPicPr/>
          <p:nvPr/>
        </p:nvPicPr>
        <p:blipFill>
          <a:blip r:embed="rId1"/>
          <a:stretch/>
        </p:blipFill>
        <p:spPr>
          <a:xfrm>
            <a:off x="5562720" y="2133720"/>
            <a:ext cx="2666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Arial"/>
              </a:rPr>
              <a:t>Assess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Arial"/>
              </a:rPr>
              <a:t>Prior to inform students that they will be asked to prepare a lis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Arial"/>
              </a:rPr>
              <a:t>Ask students to jot down as many single words they can to describe Emily Carr and her work/contribu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676160" y="1981080"/>
            <a:ext cx="7010280" cy="411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3" name="Object 2"/>
          <p:cNvGraphicFramePr/>
          <p:nvPr/>
        </p:nvGraphicFramePr>
        <p:xfrm>
          <a:off x="2438280" y="1981080"/>
          <a:ext cx="4569120" cy="342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4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38280" y="1981080"/>
                    <a:ext cx="4569120" cy="342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CA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2" descr="C:\Users\Mike\AppData\Local\Microsoft\Windows\Temporary Internet Files\Content.IE5\0JZ499U8\MP900289345[1].jpg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2428920" y="585720"/>
            <a:ext cx="4000320" cy="60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676160" y="1981080"/>
            <a:ext cx="7010280" cy="41148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" descr="C:\Users\Mike\AppData\Local\Microsoft\Windows\Temporary Internet Files\Content.IE5\2SENHA3A\MP900406991[1].jpg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2857680" y="1868400"/>
            <a:ext cx="2755800" cy="41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Content Placeholder 3" descr="C:\Users\Mike\AppData\Local\Microsoft\Windows\Temporary Internet Files\Content.IE5\2SENHA3A\MC900200337[1].wmf"/>
          <p:cNvPicPr/>
          <p:nvPr/>
        </p:nvPicPr>
        <p:blipFill>
          <a:blip r:embed="rId1"/>
          <a:stretch/>
        </p:blipFill>
        <p:spPr>
          <a:xfrm>
            <a:off x="2871720" y="2127240"/>
            <a:ext cx="38401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676160" y="1981080"/>
            <a:ext cx="7010280" cy="41148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" descr="C:\Users\Mike\AppData\Local\Microsoft\Windows\Temporary Internet Files\Content.IE5\V240LO5X\MP900313980[1].jpg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2000160" y="1600200"/>
            <a:ext cx="4380120" cy="44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hildhood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 was born in Victoria, B.C. She was the youngest of five girls, and one boy. When Emily was a teenager her parents died. Her mother passed away first and two years later her father died. Emily’s older sister became the head of the fami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Background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ily and her sister did not get along. Eventually Emily left for San Francisco where she learned to work with charcoal and paint – mostly oi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ily later studied in London, England but returned to Canad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ily also travelled to France and took art classes ther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 ended up stopping her art because she couldn’t make money but in 1920 she was in Toronto and met the “Group of Seven” – this experience inspired her to paint again.  They influenced her and supported her work as if she belong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5" descr="VAG-42"/>
          <p:cNvPicPr/>
          <p:nvPr/>
        </p:nvPicPr>
        <p:blipFill>
          <a:blip r:embed="rId1"/>
          <a:stretch/>
        </p:blipFill>
        <p:spPr>
          <a:xfrm>
            <a:off x="2438280" y="1905120"/>
            <a:ext cx="47628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ily never married. She loved animals and raised Old English Sheepdo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 continued to wor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her art, travelling i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trailer she call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lephant’ wit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 animals, paint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ndscapes and nat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7" descr="Emily Carr with friends and caravan “Elephant” on sketching trip, 1934 Photograph by Mrs. S.F. Morley British Columbia Archives, B-09610"/>
          <p:cNvPicPr/>
          <p:nvPr/>
        </p:nvPicPr>
        <p:blipFill>
          <a:blip r:embed="rId1"/>
          <a:stretch/>
        </p:blipFill>
        <p:spPr>
          <a:xfrm>
            <a:off x="5410080" y="3200400"/>
            <a:ext cx="3353040" cy="25146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971-21-3_emily_carr_dog"/>
          <p:cNvPicPr/>
          <p:nvPr/>
        </p:nvPicPr>
        <p:blipFill>
          <a:blip r:embed="rId2"/>
          <a:stretch/>
        </p:blipFill>
        <p:spPr>
          <a:xfrm>
            <a:off x="1828800" y="457200"/>
            <a:ext cx="10224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900" spc="-1" strike="noStrike">
                <a:solidFill>
                  <a:srgbClr val="ffffff"/>
                </a:solidFill>
                <a:latin typeface="Arial"/>
              </a:rPr>
              <a:t>Carr and her stamp on History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Carr loved Aboriginal Culture and loved nature and forestry. Her paintings put a stamp on Canadian History because they tell a story of the beauty within the first nations culture and within the landscape of Canad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Totem Pol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ily especiall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ved the First Nation’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ople and cul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 spent time wit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m and studi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painted their tote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es. She decided t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int as many tote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es as she could t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ve a part of th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original cul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5" descr="94554l"/>
          <p:cNvPicPr/>
          <p:nvPr/>
        </p:nvPicPr>
        <p:blipFill>
          <a:blip r:embed="rId1"/>
          <a:stretch/>
        </p:blipFill>
        <p:spPr>
          <a:xfrm>
            <a:off x="4952880" y="1523880"/>
            <a:ext cx="464832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3T15:23:01Z</dcterms:created>
  <dc:creator>Chignecto Central Regional School Board</dc:creator>
  <dc:description/>
  <dc:language>en-US</dc:language>
  <cp:lastModifiedBy>Mike</cp:lastModifiedBy>
  <dcterms:modified xsi:type="dcterms:W3CDTF">2012-07-10T14:10:48Z</dcterms:modified>
  <cp:revision>28</cp:revision>
  <dc:subject/>
  <dc:title>Emily Carr</dc:title>
</cp:coreProperties>
</file>